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34B759-A42E-49B9-AAB8-D394C3196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B0184E-0D87-4E2E-8BD3-2CDA959F4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C58133-00A4-4C8B-BA34-53289A3E8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FA2119-9F24-454A-A510-9F9F2363F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4FDAA3-4F2A-4ECD-95BA-3F72CF1AE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21C5C1-950E-4F1E-A355-9942A7413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FD686E-9E2C-4721-AFCC-EFF3D8037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08EFE2-CBE7-4893-8BA5-1583DA876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E7D87E-ED93-4020-B13E-987A2DB85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D9F751-2D59-45A4-BC67-3F3B6AB82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43AEB8-FD85-4959-9C1A-0F9EB832C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40ADAE-A651-4B84-A483-85B6B350F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189208-8897-497A-BEFA-AC6D5BE4E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849257-FD5E-4447-9417-EA5872531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1ACF4E-C777-4F3D-B553-EC709061D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47B32F-FDD8-4F5C-B2BA-C523AA27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68B17C-20B0-42CB-845C-50BEF9C6B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17E14B-F682-4DEE-BAA8-B9B5500AB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964105-773C-46E7-90C1-ABA4B1606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09914C-DC93-439C-9099-2A316ECC7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36AAA5-BE45-487C-A41F-1918F7C57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7DEE49-3B0E-4B74-AA34-67A2F7C85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0CD54F-6EEE-4534-AEF0-CAD7B1258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92EA7A-012B-4271-92EE-8D563A1AD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D095B0-E74C-47B8-85E2-AF9F06B63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A1D457-38E3-4224-AAC8-35E6D88CD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0E89B7-AA16-40C9-82CB-E21B97F6B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57722B-A866-4F37-B09C-A4A84EA9D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5F6546-B9ED-4837-921C-2BA883160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1BC3E1-5328-49FA-921B-8379A1065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58E6-163B-437A-BDB7-BAF92D483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2E2300-E2DA-43A6-B94F-63DEBE718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C8F774-1A31-46F7-9350-103C7533B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10CB67-6ADF-414A-B65C-9717F4E08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B17256-A47F-4154-BA96-7D91E91AC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E00EDD-E289-4545-937D-51A351A26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E4BC83-302E-4374-94CE-76F38B11F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6D1D6E-46D9-42A9-BC93-0DC4D8803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BA03E1-1997-402D-AC7B-C91ADBCBF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4F30F8-1A70-4AF3-B47D-A006FFBB9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C020FE-7D0A-44D1-98A5-C382D27A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ECA3-62AA-49E1-8B6E-260AD67BB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E4C2E8-3F05-4037-A59F-818599C2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52AD57-4744-4E38-9997-3CC4CFF1A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96E2EA-896E-406E-B992-D0B33A76C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BBEC8A-DBB8-449B-AA27-95E2057D7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CDBA48-4954-4FFC-B04C-7ECEA019C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7005-124C-4E6D-A279-371177976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6584-D872-458C-A664-B295D8F06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16A8-A0FA-41C1-A61A-C1FC505EF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960D-D239-40D5-93DE-A0E8587D1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D94A-236A-4139-A72D-97EADE81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DD15-5D6B-4070-85B5-E9F567E06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0EFA-13E0-4D4F-A152-BAA24069B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0ADE-17D9-4123-8C69-7AD91F8A0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00DC-7D78-40D2-8BA7-B326051FA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5D9F-B3B2-4DB2-8730-882694F37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BFA96-866C-4FFD-B001-7D199DDF1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56CAA-09EE-4792-93E1-3C87700F2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D7660-FD8B-4F6E-B49F-0B4C1C659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582EF-80D3-4483-8061-B44BE5845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398E7-F349-4C41-8B04-9D084E40B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D6CD9-00C7-474F-8C88-48E603B64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FDC23-D529-473F-B797-2630C27E4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C29C6-AA98-4866-9D3E-839E6FA87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16C25-D6B6-4028-96B0-80ADE57E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DE2B8-9242-457A-BE20-D3C798123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B2EA2-1096-4BA1-9AFD-7DB059220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71A90-C9C4-47F8-A8F2-70B531DDF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2747D-FC8D-408E-AEEA-EC7DEBEBD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08082-8127-4BA1-A4BE-0DC18F23A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8E157-25F0-49CC-93EB-E03B6C02C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23A46-4D3B-4B7B-8029-32CF35FB2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F13D9-3916-4D83-8267-0001B70AC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1BB1A-F5B4-482A-905F-080A0EC65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53220-571C-4ACB-9ECF-20FB4AF12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5FC7B-DD4A-4457-8400-8AA0EA06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F8465-1798-47C5-BF86-84B373468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E6BFE-C7AA-4086-8253-DA9801476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1347B-FB8C-4107-A510-3D9D84071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93506-C262-4C2A-A3A0-A8EAA7BBB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F3CC9-7177-4A9A-AE40-B510CE96B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B001A-B674-49FC-A335-6C2F4A071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982DA-D97D-42F4-AE32-3A670E373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BC108-0973-409D-BC5B-D00F56C47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93F9C-45FA-43E1-8790-4F1751804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F6DB6-C57F-44DB-88A9-119435EF1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3A463-D3AE-4FF1-A3BD-0A29A0E1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4B49A-44B0-4C39-B295-1E9646D73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148C1-BCC9-4B15-AB28-E92B4D270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569DB-61BF-4ABD-A30C-A64D6742C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E531F-A581-4840-BD51-985A7E142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D0D95-FE23-43C3-99EE-646C020E1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CEF898-516F-4A97-A850-EF36659C5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70F16-8542-4FA0-89F0-1E692163B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811962-4EA1-4612-9240-FB1B0523F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B0011-B1BA-4934-AE1F-8C538074F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C60FA-8401-47E6-81E6-59231B8CC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4488D-88B3-4B33-B85B-BFD68660C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F62CF-B79C-4DB5-8C5C-F8010C798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449244-2C79-4017-83EB-91129764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3BB8F8-485E-44CB-A630-2F935D979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522496-EA47-4F50-9B55-9175EFB80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F9E456-3155-4561-A419-756446E07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5E4544-5C85-4306-BEDF-43C2BC349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AD3E04-A6F2-40BD-9775-59B25BB49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06A415-F16C-45CF-B9C7-9D01C14D4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B0660B-E0CA-4304-B078-3B8A97207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6CA53A-990E-4B2C-885A-08166D1BA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470449-D2E0-4806-A72C-97417FDA1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FC1794-085E-4033-91CC-C55F7E052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07DCAB-E81C-43B3-984E-66AF837F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D7F1F-73E7-412B-A8D9-083DC506C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DD149C-AD12-4C50-B5C5-E047F57D0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B9A143-A0DB-42BF-BF58-09A4CC751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A01C3F-8BB3-4DD9-9CA5-B9128EAC2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50B29D-C14E-40CF-9926-6ED48538E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44AC31-70F9-4DF3-BC65-62668BE42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E27C11-45ED-4AB9-A8B0-D31DAC4A0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A70E43-277E-4651-B6E4-777475285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B31C53-16FD-458B-8AB8-A398BF601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CEA740-9D65-49A8-9BAD-80339766B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4F03B1-9B1A-4CDE-B312-E5709E938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5B0FF6-3002-4B52-AFA8-2832909D7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41CDC5-4BD6-489F-9307-D29DE003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CC4C7C-620C-4EBA-B3B6-D158466A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2C1582-6F8C-424B-80B7-2C39AA0F7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EA2390-3974-4EF3-B33F-AC4D80015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575A4D-3E05-4478-B820-D66C4134E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FFB597-1333-4848-91B9-784031BEF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C1F110-0295-40FA-AECD-ACAF89C44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DE913A-8D34-4FC9-95D3-3682E57E9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9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E574D-2A30-42F3-A8CE-5A7BC82DDC3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4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0E3AD-47BF-4166-9FCE-46EB93CA3ABF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8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1F561-886B-415C-96F8-A43F61719571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2F1C7-AD4A-4781-8BFC-B99EC0DA9529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8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260D1-B950-4881-AD2D-567ADE1AE80E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A73A9-9755-46A6-8BC5-5CB2944E53F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7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8C4EF-5998-4C33-84E4-CA2F089A3CCC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2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8093D-94CE-47E6-8CD6-C9AC320857CA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6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BECB3-2597-4F21-B038-F660E5373F36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11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6EAFB-2CD7-4565-BAAC-72C51A62E8EB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5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DDD58-EEF6-42F0-8446-6817D46CA687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escentralização da Gestão do município de Ponte Alta do Bom Jes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AD339-0EDD-4A99-A37B-93B574D16A7E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Tabela 4" descr=""/>
          <p:cNvPicPr/>
          <p:nvPr/>
        </p:nvPicPr>
        <p:blipFill>
          <a:blip r:embed="rId1"/>
          <a:stretch/>
        </p:blipFill>
        <p:spPr>
          <a:xfrm>
            <a:off x="212760" y="1712880"/>
            <a:ext cx="807732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12:40:42Z</dcterms:created>
  <dc:creator>Cleison Lima Moura</dc:creator>
  <dc:description/>
  <dc:language>en-US</dc:language>
  <cp:lastModifiedBy>marleidesilva</cp:lastModifiedBy>
  <cp:lastPrinted>2017-04-12T15:53:19Z</cp:lastPrinted>
  <dcterms:modified xsi:type="dcterms:W3CDTF">2017-04-19T19:16:40Z</dcterms:modified>
  <cp:revision>929</cp:revision>
  <dc:subject/>
  <dc:title>Apresentação do PowerPoint</dc:title>
</cp:coreProperties>
</file>